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D67-95A5-467B-BA9D-3DF7B913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79F-6FAF-4F96-8A02-6C1C7B92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E46C-0D6E-4C9A-9D0B-C7117432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A67-9C56-4E3A-9FC0-152A559A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D27D-BEE2-4E9F-A3DB-0A3D3266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29CF-AF13-4DFB-8989-29A47479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7CCD-5EBF-4562-BD2A-0291790A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CDC5-BFE0-41F9-BED3-66305DA9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A1DB-3457-40B7-8128-5DBCC72D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CE61-B9BA-4C28-ACC7-305B12CD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22F5-0B93-44B9-A914-917D13D3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DAC9-A2BF-44C2-B1B7-392EE0AB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9097-10F7-4B61-A89E-B5CDA72F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5666-F21F-4952-B812-62852710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6B98-EBD4-4422-B7CD-6560D8F7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CA7C-2E59-4F54-A304-53DA2EB0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2AC9-86E3-4E70-B644-C40C4EFA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830A2-F3F2-46AB-A508-60B39469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A7C0C-39B0-4118-A770-9A2336C7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73FA4-DFD5-4B1E-8D8A-0234C5E7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4000A-F2E3-47EB-86A7-BF07D9C6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55109-13DA-40EC-A0DD-A03C4D49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1D8-7125-4729-8D65-8897AC11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FFA7A-6527-40D9-9231-8BB599BB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D2A4A-1C91-427F-8CB2-BF9B596E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EC760-1C30-49F0-8246-93551D1E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95EC0-E4F7-41F0-BA68-4C7EDE55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A2DE9-D1A0-43C9-9974-D5B06E28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1F248-4FB3-4B96-AC0D-F60BB132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F991A-1D4F-4B5F-A627-BC7BC8FE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127EC-C7F5-4FDE-871E-DCF51F21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6305F-7642-492F-9D60-015BAC82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FC4B8-E1A3-4A61-B9E8-28B701A8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EAE-3A75-4EF4-BEE5-3547C583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CA0E5-5437-44A4-9351-C8EB79E7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60AA9-27C9-476F-B8BE-E23115D6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362A0-CDBA-46CA-BFB9-CB5916A3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04668-B6CB-4E34-B430-B3D558C7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23971-4D99-4868-8CD9-90B266C4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65DEB-45A6-4F0A-90C0-767D2FAB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77D74-3632-467F-BA79-D3DCCCFF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3E7C0-6B5F-4A1A-BF22-BB24B15C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BF4C4-9DF3-49A2-8E17-BB6ECE5F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D0233-0EC7-43AC-8E23-66170CD1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D802-E1DA-44DE-B476-FE4C6ED5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F6910-95F4-41F0-ACD3-A8EF7220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E35BB-6695-43BB-9A43-BFA21157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9EE24-59E3-44AE-9138-96F7F89B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A7892-80F2-494D-A2D1-E7AC703D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620BE-2ECF-4B94-8D0B-2029FD77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17E73-C5F6-4987-A043-CEDE14F6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31E0B-0A0A-43BE-B538-C36051A2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DC651-2974-4713-9869-27F49E4B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99ACD-A32B-44C3-8A0B-B8FF4AD9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E6A82-A168-4A59-A767-4CB96339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38C-FDB2-4AAE-831E-2DBB62E4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715E6-B97A-4068-95BA-C1572E64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7F4C-B2FB-4A07-B478-E5D23CCE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CF68-97B1-4463-B9FC-E9DF295B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A23-B6B6-46EA-A133-8651C7AE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8EA4-6A03-4B4F-B852-3693A5816555}" type="datetime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A8FB-4E46-4515-A81F-113521A75107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13F2-0BBB-4714-8DAC-F80C998CBF3B}" type="datetime">
              <a:rPr b="0" lang="en-US" sz="1100" spc="-1" strike="noStrike">
                <a:solidFill>
                  <a:srgbClr val="6d6452"/>
                </a:solidFill>
                <a:latin typeface="Book Antiqua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58DA-4C6E-4791-A4BB-F27254F32559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3FE9-D702-4D1F-AEF1-50F89D45795D}" type="datetime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6855-3859-44C2-B3AC-55FEB323EE07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traight Connector 6"/>
          <p:cNvSpPr/>
          <p:nvPr/>
        </p:nvSpPr>
        <p:spPr>
          <a:xfrm>
            <a:off x="503280" y="2352600"/>
            <a:ext cx="3840120" cy="1800"/>
          </a:xfrm>
          <a:prstGeom prst="line">
            <a:avLst/>
          </a:prstGeom>
          <a:ln w="6480">
            <a:solidFill>
              <a:srgbClr val="c6b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124" name="Straight Connector 7"/>
          <p:cNvSpPr/>
          <p:nvPr/>
        </p:nvSpPr>
        <p:spPr>
          <a:xfrm>
            <a:off x="4805280" y="2352600"/>
            <a:ext cx="3840120" cy="1800"/>
          </a:xfrm>
          <a:prstGeom prst="line">
            <a:avLst/>
          </a:prstGeom>
          <a:ln w="6480">
            <a:solidFill>
              <a:srgbClr val="c6b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EED9-ABAA-46FA-ACE0-9E2D1DC57020}" type="datetime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99A3-3EBE-4892-8121-79E76C612AB3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2EC8-E840-4854-99AE-E8B66B08FD4D}" type="datetime">
              <a:rPr b="0" lang="en-US" sz="1100" spc="-1" strike="noStrike">
                <a:solidFill>
                  <a:srgbClr val="6d6452"/>
                </a:solidFill>
                <a:latin typeface="Book Antiqua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2BD4-BE89-46E4-9137-64B16A77F23A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8600" y="457200"/>
            <a:ext cx="814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02c24"/>
                </a:solidFill>
                <a:uFillTx/>
                <a:latin typeface="Book Antiqua"/>
              </a:rPr>
              <a:t>Cash Receipts Journal</a:t>
            </a:r>
            <a:r>
              <a:rPr b="0" lang="en-US" sz="4000" spc="-1" strike="noStrike">
                <a:solidFill>
                  <a:srgbClr val="302c24"/>
                </a:solidFill>
                <a:latin typeface="Book Antiqua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302c24"/>
                </a:solidFill>
                <a:latin typeface="Book Antiqua"/>
              </a:rPr>
              <a:t>Used by corporations to record only cash receipt transactions.</a:t>
            </a:r>
            <a:br>
              <a:rPr sz="2600"/>
            </a:br>
            <a:br>
              <a:rPr sz="2600"/>
            </a:br>
            <a:r>
              <a:rPr b="1" lang="en-US" sz="2600" spc="-1" strike="noStrike" u="sng">
                <a:solidFill>
                  <a:srgbClr val="302c24"/>
                </a:solidFill>
                <a:uFillTx/>
                <a:latin typeface="Book Antiqua"/>
              </a:rPr>
              <a:t>Most Cash Receipts are:</a:t>
            </a:r>
            <a:br>
              <a:rPr sz="2600"/>
            </a:br>
            <a:r>
              <a:rPr b="0" lang="en-US" sz="2600" spc="-1" strike="noStrike">
                <a:solidFill>
                  <a:srgbClr val="302c24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302c24"/>
                </a:solidFill>
                <a:latin typeface="Book Antiqua"/>
              </a:rPr>
              <a:t>1.) Cash and Credit Card Sales</a:t>
            </a:r>
            <a:br>
              <a:rPr sz="2600"/>
            </a:br>
            <a:r>
              <a:rPr b="0" lang="en-US" sz="2600" spc="-1" strike="noStrike">
                <a:solidFill>
                  <a:srgbClr val="302c24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302c24"/>
                </a:solidFill>
                <a:latin typeface="Book Antiqua"/>
              </a:rPr>
              <a:t>2.) Cash Received from Customers on Account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302c24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02c24"/>
                </a:solidFill>
                <a:latin typeface="Book Antiqua"/>
              </a:rPr>
              <a:t>JOURNALIZING CASH AND CREDIT CARD SALES</a:t>
            </a:r>
            <a:endParaRPr b="0" lang="en-US" sz="45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457200" y="1676520"/>
            <a:ext cx="8229600" cy="703800"/>
          </a:xfrm>
          <a:prstGeom prst="rect">
            <a:avLst/>
          </a:prstGeom>
          <a:gradFill rotWithShape="0">
            <a:gsLst>
              <a:gs pos="0">
                <a:srgbClr val="f27b0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March 1. Recorded cash and credit card sales $2,480.00, plus sales tax, $198.40; total $2,678.40. Cash register tape No. 1.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57200" y="2514600"/>
            <a:ext cx="2819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ccounts Affected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2c24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2c24"/>
                </a:solidFill>
                <a:latin typeface="Arial"/>
              </a:rPr>
              <a:t>Sales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2c24"/>
                </a:solidFill>
                <a:latin typeface="Arial"/>
              </a:rPr>
              <a:t>Accounts Payable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373880" y="2508120"/>
            <a:ext cx="1295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ntered 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Debit side 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5697360" y="2514600"/>
            <a:ext cx="1295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hange</a:t>
            </a: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Increased 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Increased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Increased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639960" y="2514600"/>
            <a:ext cx="1676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Asset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Revenue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Liability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4433760" y="47512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2c24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302c24"/>
              </a:solidFill>
              <a:latin typeface="Times New Roman"/>
            </a:endParaRPr>
          </a:p>
        </p:txBody>
      </p:sp>
      <p:grpSp>
        <p:nvGrpSpPr>
          <p:cNvPr id="215" name="Group 9"/>
          <p:cNvGrpSpPr/>
          <p:nvPr/>
        </p:nvGrpSpPr>
        <p:grpSpPr>
          <a:xfrm>
            <a:off x="5443920" y="4970520"/>
            <a:ext cx="1961280" cy="441360"/>
            <a:chOff x="5443920" y="4970520"/>
            <a:chExt cx="1961280" cy="441360"/>
          </a:xfrm>
        </p:grpSpPr>
        <p:sp>
          <p:nvSpPr>
            <p:cNvPr id="216" name="Text Box 10"/>
            <p:cNvSpPr/>
            <p:nvPr/>
          </p:nvSpPr>
          <p:spPr>
            <a:xfrm>
              <a:off x="5443920" y="50436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02c24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302c24"/>
                </a:solidFill>
                <a:latin typeface="Times New Roman"/>
              </a:endParaRPr>
            </a:p>
          </p:txBody>
        </p:sp>
        <p:sp>
          <p:nvSpPr>
            <p:cNvPr id="217" name="Text Box 11"/>
            <p:cNvSpPr/>
            <p:nvPr/>
          </p:nvSpPr>
          <p:spPr>
            <a:xfrm>
              <a:off x="5805360" y="497052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02c24"/>
                  </a:solidFill>
                  <a:latin typeface="Arial"/>
                </a:rPr>
                <a:t>2,480.00</a:t>
              </a:r>
              <a:endParaRPr b="0" lang="en-US" sz="1800" spc="-1" strike="noStrike">
                <a:solidFill>
                  <a:srgbClr val="302c24"/>
                </a:solidFill>
                <a:latin typeface="Times New Roman"/>
              </a:endParaRPr>
            </a:p>
          </p:txBody>
        </p:sp>
      </p:grpSp>
      <p:sp>
        <p:nvSpPr>
          <p:cNvPr id="218" name="Text Box 12"/>
          <p:cNvSpPr/>
          <p:nvPr/>
        </p:nvSpPr>
        <p:spPr>
          <a:xfrm>
            <a:off x="496800" y="47512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2c24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874080" y="50371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2,678.40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518400" y="49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2c24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5942880" y="492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2c24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419720" y="582444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2c24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6511320" y="6110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198.40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5965200" y="5992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2c24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grpSp>
        <p:nvGrpSpPr>
          <p:cNvPr id="225" name="Group 38"/>
          <p:cNvGrpSpPr/>
          <p:nvPr/>
        </p:nvGrpSpPr>
        <p:grpSpPr>
          <a:xfrm>
            <a:off x="573120" y="4296960"/>
            <a:ext cx="6756480" cy="2092680"/>
            <a:chOff x="573120" y="4296960"/>
            <a:chExt cx="6756480" cy="2092680"/>
          </a:xfrm>
        </p:grpSpPr>
        <p:grpSp>
          <p:nvGrpSpPr>
            <p:cNvPr id="226" name="Group 20"/>
            <p:cNvGrpSpPr/>
            <p:nvPr/>
          </p:nvGrpSpPr>
          <p:grpSpPr>
            <a:xfrm>
              <a:off x="4510080" y="4296960"/>
              <a:ext cx="2819520" cy="1019520"/>
              <a:chOff x="4510080" y="4296960"/>
              <a:chExt cx="2819520" cy="1019520"/>
            </a:xfrm>
          </p:grpSpPr>
          <p:sp>
            <p:nvSpPr>
              <p:cNvPr id="227" name="Text Box 21"/>
              <p:cNvSpPr/>
              <p:nvPr/>
            </p:nvSpPr>
            <p:spPr>
              <a:xfrm>
                <a:off x="5533200" y="4296960"/>
                <a:ext cx="75060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02c24"/>
                    </a:solidFill>
                    <a:latin typeface="Arial"/>
                  </a:rPr>
                  <a:t>Sales</a:t>
                </a:r>
                <a:endParaRPr b="0" lang="en-US" sz="1800" spc="-1" strike="noStrike">
                  <a:solidFill>
                    <a:srgbClr val="302c24"/>
                  </a:solidFill>
                  <a:latin typeface="Times New Roman"/>
                </a:endParaRPr>
              </a:p>
            </p:txBody>
          </p:sp>
          <p:grpSp>
            <p:nvGrpSpPr>
              <p:cNvPr id="228" name="Group 22"/>
              <p:cNvGrpSpPr/>
              <p:nvPr/>
            </p:nvGrpSpPr>
            <p:grpSpPr>
              <a:xfrm>
                <a:off x="4510080" y="4782960"/>
                <a:ext cx="2819520" cy="533520"/>
                <a:chOff x="4510080" y="4782960"/>
                <a:chExt cx="2819520" cy="533520"/>
              </a:xfrm>
            </p:grpSpPr>
            <p:sp>
              <p:nvSpPr>
                <p:cNvPr id="229" name="Line 23"/>
                <p:cNvSpPr/>
                <p:nvPr/>
              </p:nvSpPr>
              <p:spPr>
                <a:xfrm>
                  <a:off x="4510080" y="4782960"/>
                  <a:ext cx="281952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 anchorCtr="1">
                  <a:noAutofit/>
                </a:bodyPr>
                <a:p>
                  <a:endParaRPr b="0" lang="en-US" sz="2400" spc="-1" strike="noStrike">
                    <a:solidFill>
                      <a:srgbClr val="302c24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5919840" y="4782960"/>
                  <a:ext cx="0" cy="53352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302c24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1" name="Group 25"/>
            <p:cNvGrpSpPr/>
            <p:nvPr/>
          </p:nvGrpSpPr>
          <p:grpSpPr>
            <a:xfrm>
              <a:off x="573120" y="4296960"/>
              <a:ext cx="2819520" cy="1019520"/>
              <a:chOff x="573120" y="4296960"/>
              <a:chExt cx="2819520" cy="1019520"/>
            </a:xfrm>
          </p:grpSpPr>
          <p:sp>
            <p:nvSpPr>
              <p:cNvPr id="232" name="Text Box 26"/>
              <p:cNvSpPr/>
              <p:nvPr/>
            </p:nvSpPr>
            <p:spPr>
              <a:xfrm>
                <a:off x="1509120" y="4296960"/>
                <a:ext cx="71244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02c24"/>
                    </a:solidFill>
                    <a:latin typeface="Arial"/>
                  </a:rPr>
                  <a:t>Cash</a:t>
                </a:r>
                <a:endParaRPr b="0" lang="en-US" sz="1800" spc="-1" strike="noStrike">
                  <a:solidFill>
                    <a:srgbClr val="302c24"/>
                  </a:solidFill>
                  <a:latin typeface="Times New Roman"/>
                </a:endParaRPr>
              </a:p>
            </p:txBody>
          </p:sp>
          <p:grpSp>
            <p:nvGrpSpPr>
              <p:cNvPr id="233" name="Group 27"/>
              <p:cNvGrpSpPr/>
              <p:nvPr/>
            </p:nvGrpSpPr>
            <p:grpSpPr>
              <a:xfrm>
                <a:off x="573120" y="4782960"/>
                <a:ext cx="2819520" cy="533520"/>
                <a:chOff x="573120" y="4782960"/>
                <a:chExt cx="2819520" cy="53352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573120" y="4782960"/>
                  <a:ext cx="281952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 anchorCtr="1">
                  <a:noAutofit/>
                </a:bodyPr>
                <a:p>
                  <a:endParaRPr b="0" lang="en-US" sz="2400" spc="-1" strike="noStrike">
                    <a:solidFill>
                      <a:srgbClr val="302c24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1982880" y="4782960"/>
                  <a:ext cx="0" cy="53352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302c24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6" name="Group 32"/>
            <p:cNvGrpSpPr/>
            <p:nvPr/>
          </p:nvGrpSpPr>
          <p:grpSpPr>
            <a:xfrm>
              <a:off x="4495680" y="5370120"/>
              <a:ext cx="2819520" cy="1019520"/>
              <a:chOff x="4495680" y="5370120"/>
              <a:chExt cx="2819520" cy="1019520"/>
            </a:xfrm>
          </p:grpSpPr>
          <p:sp>
            <p:nvSpPr>
              <p:cNvPr id="237" name="Text Box 33"/>
              <p:cNvSpPr/>
              <p:nvPr/>
            </p:nvSpPr>
            <p:spPr>
              <a:xfrm>
                <a:off x="4746600" y="5370120"/>
                <a:ext cx="208260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02c24"/>
                    </a:solidFill>
                    <a:latin typeface="Arial"/>
                  </a:rPr>
                  <a:t>Sales Tax Payable</a:t>
                </a:r>
                <a:endParaRPr b="0" lang="en-US" sz="1800" spc="-1" strike="noStrike">
                  <a:solidFill>
                    <a:srgbClr val="302c24"/>
                  </a:solidFill>
                  <a:latin typeface="Times New Roman"/>
                </a:endParaRPr>
              </a:p>
            </p:txBody>
          </p:sp>
          <p:grpSp>
            <p:nvGrpSpPr>
              <p:cNvPr id="238" name="Group 34"/>
              <p:cNvGrpSpPr/>
              <p:nvPr/>
            </p:nvGrpSpPr>
            <p:grpSpPr>
              <a:xfrm>
                <a:off x="4495680" y="5856120"/>
                <a:ext cx="2819520" cy="533520"/>
                <a:chOff x="4495680" y="5856120"/>
                <a:chExt cx="2819520" cy="533520"/>
              </a:xfrm>
            </p:grpSpPr>
            <p:sp>
              <p:nvSpPr>
                <p:cNvPr id="239" name="Line 35"/>
                <p:cNvSpPr/>
                <p:nvPr/>
              </p:nvSpPr>
              <p:spPr>
                <a:xfrm>
                  <a:off x="4495680" y="5856120"/>
                  <a:ext cx="281952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 anchorCtr="1">
                  <a:noAutofit/>
                </a:bodyPr>
                <a:p>
                  <a:endParaRPr b="0" lang="en-US" sz="2400" spc="-1" strike="noStrike">
                    <a:solidFill>
                      <a:srgbClr val="302c24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Line 36"/>
                <p:cNvSpPr/>
                <p:nvPr/>
              </p:nvSpPr>
              <p:spPr>
                <a:xfrm>
                  <a:off x="5905440" y="5856120"/>
                  <a:ext cx="0" cy="53352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302c24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1" name="Text Box 37"/>
          <p:cNvSpPr/>
          <p:nvPr/>
        </p:nvSpPr>
        <p:spPr>
          <a:xfrm>
            <a:off x="7344360" y="700956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9-2, page 493</a:t>
            </a:r>
            <a:endParaRPr b="0" lang="en-US" sz="1200" spc="-1" strike="noStrike">
              <a:solidFill>
                <a:srgbClr val="302c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8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02c24"/>
                </a:solidFill>
                <a:latin typeface="Book Antiqua"/>
              </a:rPr>
              <a:t>JOURNALIZING CASH AND CREDIT CARD SALES</a:t>
            </a:r>
            <a:endParaRPr b="0" lang="en-US" sz="3700" spc="-1" strike="noStrike">
              <a:solidFill>
                <a:srgbClr val="302c24"/>
              </a:solidFill>
              <a:latin typeface="Book Antiqua"/>
            </a:endParaRPr>
          </a:p>
        </p:txBody>
      </p:sp>
      <p:pic>
        <p:nvPicPr>
          <p:cNvPr id="243" name="Picture 5" descr="D:\C21 PowerPoint\Multi_Journal\art for blue\Ch19\Ch19-02a.jpg"/>
          <p:cNvPicPr/>
          <p:nvPr/>
        </p:nvPicPr>
        <p:blipFill>
          <a:blip r:embed="rId2"/>
          <a:srcRect l="0" t="0" r="0" b="67857"/>
          <a:stretch/>
        </p:blipFill>
        <p:spPr>
          <a:xfrm>
            <a:off x="457200" y="1477800"/>
            <a:ext cx="8153280" cy="3105360"/>
          </a:xfrm>
          <a:prstGeom prst="rect">
            <a:avLst/>
          </a:prstGeom>
          <a:ln w="0">
            <a:noFill/>
          </a:ln>
        </p:spPr>
      </p:pic>
      <p:sp>
        <p:nvSpPr>
          <p:cNvPr id="244" name="Oval 6"/>
          <p:cNvSpPr/>
          <p:nvPr/>
        </p:nvSpPr>
        <p:spPr>
          <a:xfrm>
            <a:off x="4800600" y="4221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45" name="Oval 7"/>
          <p:cNvSpPr/>
          <p:nvPr/>
        </p:nvSpPr>
        <p:spPr>
          <a:xfrm>
            <a:off x="152280" y="36115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46" name="Oval 8"/>
          <p:cNvSpPr/>
          <p:nvPr/>
        </p:nvSpPr>
        <p:spPr>
          <a:xfrm>
            <a:off x="2133720" y="391644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3124080" y="4221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48" name="Oval 10"/>
          <p:cNvSpPr/>
          <p:nvPr/>
        </p:nvSpPr>
        <p:spPr>
          <a:xfrm>
            <a:off x="1219320" y="42210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514440" y="5610240"/>
            <a:ext cx="27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Cash Register Tape Number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514440" y="4871880"/>
            <a:ext cx="238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514440" y="6278400"/>
            <a:ext cx="22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Check Mark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514440" y="523728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Check Mark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3411360" y="486576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Sales Amount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7344360" y="65062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9-2, page 493</a:t>
            </a:r>
            <a:endParaRPr b="0" lang="en-US" sz="12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3411360" y="5230800"/>
            <a:ext cx="25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Sales Tax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3411360" y="5605560"/>
            <a:ext cx="321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Total Cash and Credit Card Receipts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57" name="Oval 19"/>
          <p:cNvSpPr/>
          <p:nvPr/>
        </p:nvSpPr>
        <p:spPr>
          <a:xfrm>
            <a:off x="6207120" y="4221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58" name="Oval 20"/>
          <p:cNvSpPr/>
          <p:nvPr/>
        </p:nvSpPr>
        <p:spPr>
          <a:xfrm>
            <a:off x="7391520" y="42210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59" name="Freeform 21"/>
          <p:cNvSpPr/>
          <p:nvPr/>
        </p:nvSpPr>
        <p:spPr>
          <a:xfrm>
            <a:off x="990720" y="2316240"/>
            <a:ext cx="2514600" cy="16002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60" name="Freeform 22"/>
          <p:cNvSpPr/>
          <p:nvPr/>
        </p:nvSpPr>
        <p:spPr>
          <a:xfrm>
            <a:off x="1905120" y="2316240"/>
            <a:ext cx="2514600" cy="152388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61" name="Freeform 23"/>
          <p:cNvSpPr/>
          <p:nvPr/>
        </p:nvSpPr>
        <p:spPr>
          <a:xfrm>
            <a:off x="3581280" y="2316240"/>
            <a:ext cx="1447920" cy="13716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62" name="Freeform 24"/>
          <p:cNvSpPr/>
          <p:nvPr/>
        </p:nvSpPr>
        <p:spPr>
          <a:xfrm>
            <a:off x="4800600" y="2316240"/>
            <a:ext cx="838080" cy="13716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63" name="Freeform 25"/>
          <p:cNvSpPr/>
          <p:nvPr/>
        </p:nvSpPr>
        <p:spPr>
          <a:xfrm>
            <a:off x="5715000" y="2316240"/>
            <a:ext cx="1295280" cy="152388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64" name="Freeform 26"/>
          <p:cNvSpPr/>
          <p:nvPr/>
        </p:nvSpPr>
        <p:spPr>
          <a:xfrm>
            <a:off x="6934320" y="2316240"/>
            <a:ext cx="1295280" cy="13716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74840"/>
            <a:ext cx="8146800" cy="61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302c24"/>
                </a:solidFill>
                <a:uFillTx/>
                <a:latin typeface="Book Antiqua"/>
              </a:rPr>
              <a:t>Sales Discount </a:t>
            </a:r>
            <a:r>
              <a:rPr b="0" lang="en-US" sz="3000" spc="-1" strike="noStrike">
                <a:solidFill>
                  <a:srgbClr val="302c24"/>
                </a:solidFill>
                <a:latin typeface="Book Antiqua"/>
              </a:rPr>
              <a:t>– A cash discount on a sale on account.  Used to encourage prompt payment.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302c24"/>
                </a:solidFill>
                <a:latin typeface="Book Antiqua"/>
              </a:rPr>
              <a:t>The </a:t>
            </a:r>
            <a:r>
              <a:rPr b="1" lang="en-US" sz="3000" spc="-1" strike="noStrike" u="sng">
                <a:solidFill>
                  <a:srgbClr val="302c24"/>
                </a:solidFill>
                <a:uFillTx/>
                <a:latin typeface="Book Antiqua"/>
              </a:rPr>
              <a:t>sales tax</a:t>
            </a:r>
            <a:r>
              <a:rPr b="1" lang="en-US" sz="3000" spc="-1" strike="noStrike">
                <a:solidFill>
                  <a:srgbClr val="302c24"/>
                </a:solidFill>
                <a:latin typeface="Book Antiqua"/>
              </a:rPr>
              <a:t> </a:t>
            </a:r>
            <a:r>
              <a:rPr b="0" lang="en-US" sz="3000" spc="-1" strike="noStrike">
                <a:solidFill>
                  <a:srgbClr val="302c24"/>
                </a:solidFill>
                <a:latin typeface="Book Antiqua"/>
              </a:rPr>
              <a:t>is only taken on cash received.  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302c24"/>
                </a:solidFill>
                <a:latin typeface="Book Antiqua"/>
              </a:rPr>
              <a:t>Therefore, the corporation waits until it has received payment to record the sales tax amount.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302c24"/>
                </a:solidFill>
                <a:latin typeface="Book Antiqua"/>
              </a:rPr>
              <a:t>Sales Discounts are a contra account to sales.</a:t>
            </a:r>
            <a:endParaRPr b="0" lang="en-US" sz="3000" spc="-1" strike="noStrike">
              <a:solidFill>
                <a:srgbClr val="302c24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5084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02c24"/>
                </a:solidFill>
                <a:latin typeface="Book Antiqua"/>
              </a:rPr>
              <a:t>JOURNALIZING CASH RECEIPTS ON ACCOUNT WITH SALES DISCOUNTS</a:t>
            </a:r>
            <a:endParaRPr b="0" lang="en-US" sz="29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457200" y="927000"/>
            <a:ext cx="8458200" cy="824040"/>
          </a:xfrm>
          <a:prstGeom prst="rect">
            <a:avLst/>
          </a:prstGeom>
          <a:solidFill>
            <a:srgbClr val="302c2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2c24"/>
                </a:solidFill>
                <a:latin typeface="Arial"/>
              </a:rPr>
              <a:t>March 11. Received cash on account from Tennis Castle, $1,924.56, covering Sales Invoice No. 176 for $1,944.00 ($1,800.00 plus sales tax, $144.00), less 1% discount, $18.00, and less sales tax, $1.44. Receipt No. 297.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457200" y="1724040"/>
            <a:ext cx="2819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ccounts Affected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2c24"/>
                </a:solidFill>
                <a:latin typeface="Arial"/>
              </a:rPr>
              <a:t>Cash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2c24"/>
                </a:solidFill>
                <a:latin typeface="Arial"/>
              </a:rPr>
              <a:t>Sales Discount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2c24"/>
                </a:solidFill>
                <a:latin typeface="Arial"/>
              </a:rPr>
              <a:t>Sales Tax Payable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2c24"/>
                </a:solidFill>
                <a:latin typeface="Arial"/>
              </a:rPr>
              <a:t>Accounts Receivable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7373880" y="1717560"/>
            <a:ext cx="1295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Entered 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Debit side 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Debit side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Debit side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Credit side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5697360" y="1724040"/>
            <a:ext cx="129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hange</a:t>
            </a: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Increased 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Increased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Decreased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Decreased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639960" y="1724040"/>
            <a:ext cx="1676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lassification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Contra revenue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457200" y="3809880"/>
            <a:ext cx="26352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Mar. 11      1,924.56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61200" y="366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2c24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74" name="Rectangle 15"/>
          <p:cNvSpPr/>
          <p:nvPr/>
        </p:nvSpPr>
        <p:spPr>
          <a:xfrm flipV="1">
            <a:off x="8597160" y="3669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2c24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75" name="Rectangle 18"/>
          <p:cNvSpPr/>
          <p:nvPr/>
        </p:nvSpPr>
        <p:spPr>
          <a:xfrm>
            <a:off x="61200" y="439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2c24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76" name="Text Box 45"/>
          <p:cNvSpPr/>
          <p:nvPr/>
        </p:nvSpPr>
        <p:spPr>
          <a:xfrm>
            <a:off x="565200" y="5475240"/>
            <a:ext cx="2101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Mar. 11</a:t>
            </a: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144.00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77" name="Rectangle 46"/>
          <p:cNvSpPr/>
          <p:nvPr/>
        </p:nvSpPr>
        <p:spPr>
          <a:xfrm flipV="1">
            <a:off x="97560" y="528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2c24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78" name="Text Box 47"/>
          <p:cNvSpPr/>
          <p:nvPr/>
        </p:nvSpPr>
        <p:spPr>
          <a:xfrm>
            <a:off x="6783480" y="3774960"/>
            <a:ext cx="19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dec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Mar. 11</a:t>
            </a: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1,944.00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457200" y="4692600"/>
            <a:ext cx="2101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Mar. 11</a:t>
            </a: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18.00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533520" y="4419720"/>
            <a:ext cx="41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2c24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81" name="Text Box 44"/>
          <p:cNvSpPr/>
          <p:nvPr/>
        </p:nvSpPr>
        <p:spPr>
          <a:xfrm>
            <a:off x="569880" y="5288040"/>
            <a:ext cx="415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2c24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4816440" y="3592440"/>
            <a:ext cx="379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2c24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496800" y="3592440"/>
            <a:ext cx="415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2c24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84" name="Text Box 48"/>
          <p:cNvSpPr/>
          <p:nvPr/>
        </p:nvSpPr>
        <p:spPr>
          <a:xfrm>
            <a:off x="566640" y="6126120"/>
            <a:ext cx="415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2c24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85" name="Rectangle 56"/>
          <p:cNvSpPr/>
          <p:nvPr/>
        </p:nvSpPr>
        <p:spPr>
          <a:xfrm flipV="1">
            <a:off x="4556880" y="6123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2c24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grpSp>
        <p:nvGrpSpPr>
          <p:cNvPr id="286" name="Group 70"/>
          <p:cNvGrpSpPr/>
          <p:nvPr/>
        </p:nvGrpSpPr>
        <p:grpSpPr>
          <a:xfrm>
            <a:off x="304920" y="2965320"/>
            <a:ext cx="8534160" cy="3740400"/>
            <a:chOff x="304920" y="2965320"/>
            <a:chExt cx="8534160" cy="3740400"/>
          </a:xfrm>
        </p:grpSpPr>
        <p:grpSp>
          <p:nvGrpSpPr>
            <p:cNvPr id="287" name="Group 69"/>
            <p:cNvGrpSpPr/>
            <p:nvPr/>
          </p:nvGrpSpPr>
          <p:grpSpPr>
            <a:xfrm>
              <a:off x="4495680" y="2971800"/>
              <a:ext cx="4343400" cy="1161720"/>
              <a:chOff x="4495680" y="2971800"/>
              <a:chExt cx="4343400" cy="1161720"/>
            </a:xfrm>
          </p:grpSpPr>
          <p:sp>
            <p:nvSpPr>
              <p:cNvPr id="288" name="Text Box 22"/>
              <p:cNvSpPr/>
              <p:nvPr/>
            </p:nvSpPr>
            <p:spPr>
              <a:xfrm>
                <a:off x="4495680" y="2971800"/>
                <a:ext cx="4343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00"/>
                    </a:solidFill>
                    <a:latin typeface="Arial"/>
                  </a:rPr>
                  <a:t>ACCOUNTS RECEIVABLE LEDGER</a:t>
                </a:r>
                <a:endParaRPr b="0" lang="en-US" sz="1400" spc="-1" strike="noStrike">
                  <a:solidFill>
                    <a:srgbClr val="302c24"/>
                  </a:solidFill>
                  <a:latin typeface="Times New Roman"/>
                </a:endParaRPr>
              </a:p>
            </p:txBody>
          </p:sp>
          <p:grpSp>
            <p:nvGrpSpPr>
              <p:cNvPr id="289" name="Group 61"/>
              <p:cNvGrpSpPr/>
              <p:nvPr/>
            </p:nvGrpSpPr>
            <p:grpSpPr>
              <a:xfrm>
                <a:off x="4876920" y="3129120"/>
                <a:ext cx="3658320" cy="1004400"/>
                <a:chOff x="4876920" y="3129120"/>
                <a:chExt cx="3658320" cy="1004400"/>
              </a:xfrm>
            </p:grpSpPr>
            <p:sp>
              <p:nvSpPr>
                <p:cNvPr id="290" name="Text Box 11"/>
                <p:cNvSpPr/>
                <p:nvPr/>
              </p:nvSpPr>
              <p:spPr>
                <a:xfrm>
                  <a:off x="4876920" y="3774960"/>
                  <a:ext cx="1982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dec" pos="13651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"/>
                    </a:rPr>
                    <a:t>Mar. 2</a:t>
                  </a: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"/>
                    </a:rPr>
                    <a:t>	</a:t>
                  </a: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"/>
                    </a:rPr>
                    <a:t>1,944.00</a:t>
                  </a:r>
                  <a:endParaRPr b="0" lang="en-US" sz="1600" spc="-1" strike="noStrike">
                    <a:solidFill>
                      <a:srgbClr val="302c24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" name="Group 24"/>
                <p:cNvGrpSpPr/>
                <p:nvPr/>
              </p:nvGrpSpPr>
              <p:grpSpPr>
                <a:xfrm>
                  <a:off x="4876920" y="3129120"/>
                  <a:ext cx="3658320" cy="1004400"/>
                  <a:chOff x="4876920" y="3129120"/>
                  <a:chExt cx="3658320" cy="1004400"/>
                </a:xfrm>
              </p:grpSpPr>
              <p:sp>
                <p:nvSpPr>
                  <p:cNvPr id="292" name="Text Box 25"/>
                  <p:cNvSpPr/>
                  <p:nvPr/>
                </p:nvSpPr>
                <p:spPr>
                  <a:xfrm>
                    <a:off x="5974200" y="3129120"/>
                    <a:ext cx="1422720" cy="60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2880" bIns="182880" anchor="ctr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302c24"/>
                        </a:solidFill>
                        <a:latin typeface="Arial"/>
                      </a:rPr>
                      <a:t>Tennis Castle</a:t>
                    </a:r>
                    <a:endParaRPr b="0" lang="en-US" sz="1600" spc="-1" strike="noStrike">
                      <a:solidFill>
                        <a:srgbClr val="302c24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3" name="Group 26"/>
                  <p:cNvGrpSpPr/>
                  <p:nvPr/>
                </p:nvGrpSpPr>
                <p:grpSpPr>
                  <a:xfrm>
                    <a:off x="4876920" y="3600360"/>
                    <a:ext cx="3658320" cy="533160"/>
                    <a:chOff x="4876920" y="3600360"/>
                    <a:chExt cx="3658320" cy="533160"/>
                  </a:xfrm>
                </p:grpSpPr>
                <p:sp>
                  <p:nvSpPr>
                    <p:cNvPr id="294" name="Line 27"/>
                    <p:cNvSpPr/>
                    <p:nvPr/>
                  </p:nvSpPr>
                  <p:spPr>
                    <a:xfrm>
                      <a:off x="4876920" y="3600360"/>
                      <a:ext cx="365832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302c24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Line 28"/>
                    <p:cNvSpPr/>
                    <p:nvPr/>
                  </p:nvSpPr>
                  <p:spPr>
                    <a:xfrm>
                      <a:off x="6706080" y="3600360"/>
                      <a:ext cx="0" cy="53316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302c24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96" name="Group 62"/>
            <p:cNvGrpSpPr/>
            <p:nvPr/>
          </p:nvGrpSpPr>
          <p:grpSpPr>
            <a:xfrm>
              <a:off x="304920" y="2965320"/>
              <a:ext cx="4495680" cy="3740400"/>
              <a:chOff x="304920" y="2965320"/>
              <a:chExt cx="4495680" cy="3740400"/>
            </a:xfrm>
          </p:grpSpPr>
          <p:sp>
            <p:nvSpPr>
              <p:cNvPr id="297" name="Text Box 21"/>
              <p:cNvSpPr/>
              <p:nvPr/>
            </p:nvSpPr>
            <p:spPr>
              <a:xfrm>
                <a:off x="1654920" y="2965320"/>
                <a:ext cx="1840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00"/>
                    </a:solidFill>
                    <a:latin typeface="Arial"/>
                  </a:rPr>
                  <a:t>GENERAL LEDGER</a:t>
                </a:r>
                <a:endParaRPr b="0" lang="en-US" sz="1400" spc="-1" strike="noStrike">
                  <a:solidFill>
                    <a:srgbClr val="302c24"/>
                  </a:solidFill>
                  <a:latin typeface="Times New Roman"/>
                </a:endParaRPr>
              </a:p>
            </p:txBody>
          </p:sp>
          <p:grpSp>
            <p:nvGrpSpPr>
              <p:cNvPr id="298" name="Group 29"/>
              <p:cNvGrpSpPr/>
              <p:nvPr/>
            </p:nvGrpSpPr>
            <p:grpSpPr>
              <a:xfrm>
                <a:off x="457200" y="3129120"/>
                <a:ext cx="4266360" cy="1004760"/>
                <a:chOff x="457200" y="3129120"/>
                <a:chExt cx="4266360" cy="1004760"/>
              </a:xfrm>
            </p:grpSpPr>
            <p:sp>
              <p:nvSpPr>
                <p:cNvPr id="299" name="Text Box 30"/>
                <p:cNvSpPr/>
                <p:nvPr/>
              </p:nvSpPr>
              <p:spPr>
                <a:xfrm>
                  <a:off x="2085120" y="3129120"/>
                  <a:ext cx="6548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02c24"/>
                      </a:solidFill>
                      <a:latin typeface="Arial"/>
                    </a:rPr>
                    <a:t>Cash</a:t>
                  </a:r>
                  <a:endParaRPr b="0" lang="en-US" sz="1600" spc="-1" strike="noStrike">
                    <a:solidFill>
                      <a:srgbClr val="302c24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0" name="Group 31"/>
                <p:cNvGrpSpPr/>
                <p:nvPr/>
              </p:nvGrpSpPr>
              <p:grpSpPr>
                <a:xfrm>
                  <a:off x="457200" y="3600360"/>
                  <a:ext cx="4266360" cy="533520"/>
                  <a:chOff x="457200" y="3600360"/>
                  <a:chExt cx="4266360" cy="533520"/>
                </a:xfrm>
              </p:grpSpPr>
              <p:sp>
                <p:nvSpPr>
                  <p:cNvPr id="301" name="Line 32"/>
                  <p:cNvSpPr/>
                  <p:nvPr/>
                </p:nvSpPr>
                <p:spPr>
                  <a:xfrm>
                    <a:off x="457200" y="3600360"/>
                    <a:ext cx="426636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302c24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Line 33"/>
                  <p:cNvSpPr/>
                  <p:nvPr/>
                </p:nvSpPr>
                <p:spPr>
                  <a:xfrm>
                    <a:off x="2590200" y="3600360"/>
                    <a:ext cx="0" cy="53352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302c24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3" name="Group 34"/>
              <p:cNvGrpSpPr/>
              <p:nvPr/>
            </p:nvGrpSpPr>
            <p:grpSpPr>
              <a:xfrm>
                <a:off x="457200" y="3962520"/>
                <a:ext cx="4266360" cy="1004760"/>
                <a:chOff x="457200" y="3962520"/>
                <a:chExt cx="4266360" cy="1004760"/>
              </a:xfrm>
            </p:grpSpPr>
            <p:sp>
              <p:nvSpPr>
                <p:cNvPr id="304" name="Text Box 35"/>
                <p:cNvSpPr/>
                <p:nvPr/>
              </p:nvSpPr>
              <p:spPr>
                <a:xfrm>
                  <a:off x="1645200" y="3962520"/>
                  <a:ext cx="15372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02c24"/>
                      </a:solidFill>
                      <a:latin typeface="Arial"/>
                    </a:rPr>
                    <a:t>Sales Discount</a:t>
                  </a:r>
                  <a:endParaRPr b="0" lang="en-US" sz="1600" spc="-1" strike="noStrike">
                    <a:solidFill>
                      <a:srgbClr val="302c24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" name="Group 36"/>
                <p:cNvGrpSpPr/>
                <p:nvPr/>
              </p:nvGrpSpPr>
              <p:grpSpPr>
                <a:xfrm>
                  <a:off x="457200" y="4433760"/>
                  <a:ext cx="4266360" cy="533520"/>
                  <a:chOff x="457200" y="4433760"/>
                  <a:chExt cx="4266360" cy="533520"/>
                </a:xfrm>
              </p:grpSpPr>
              <p:sp>
                <p:nvSpPr>
                  <p:cNvPr id="306" name="Line 37"/>
                  <p:cNvSpPr/>
                  <p:nvPr/>
                </p:nvSpPr>
                <p:spPr>
                  <a:xfrm>
                    <a:off x="457200" y="4433760"/>
                    <a:ext cx="426636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302c24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Line 38"/>
                  <p:cNvSpPr/>
                  <p:nvPr/>
                </p:nvSpPr>
                <p:spPr>
                  <a:xfrm>
                    <a:off x="2590200" y="4433760"/>
                    <a:ext cx="0" cy="53352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302c24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8" name="Group 60"/>
              <p:cNvGrpSpPr/>
              <p:nvPr/>
            </p:nvGrpSpPr>
            <p:grpSpPr>
              <a:xfrm>
                <a:off x="304920" y="5654520"/>
                <a:ext cx="4415760" cy="1051200"/>
                <a:chOff x="304920" y="5654520"/>
                <a:chExt cx="4415760" cy="1051200"/>
              </a:xfrm>
            </p:grpSpPr>
            <p:grpSp>
              <p:nvGrpSpPr>
                <p:cNvPr id="309" name="Group 50"/>
                <p:cNvGrpSpPr/>
                <p:nvPr/>
              </p:nvGrpSpPr>
              <p:grpSpPr>
                <a:xfrm>
                  <a:off x="453960" y="5654520"/>
                  <a:ext cx="4266720" cy="1004760"/>
                  <a:chOff x="453960" y="5654520"/>
                  <a:chExt cx="4266720" cy="1004760"/>
                </a:xfrm>
              </p:grpSpPr>
              <p:sp>
                <p:nvSpPr>
                  <p:cNvPr id="310" name="Text Box 51"/>
                  <p:cNvSpPr/>
                  <p:nvPr/>
                </p:nvSpPr>
                <p:spPr>
                  <a:xfrm>
                    <a:off x="1372320" y="5654520"/>
                    <a:ext cx="2079720" cy="60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2880" bIns="182880" anchor="ctr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302c24"/>
                        </a:solidFill>
                        <a:latin typeface="Arial"/>
                      </a:rPr>
                      <a:t>Accounts Receivable</a:t>
                    </a:r>
                    <a:endParaRPr b="0" lang="en-US" sz="1600" spc="-1" strike="noStrike">
                      <a:solidFill>
                        <a:srgbClr val="302c24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1" name="Group 52"/>
                  <p:cNvGrpSpPr/>
                  <p:nvPr/>
                </p:nvGrpSpPr>
                <p:grpSpPr>
                  <a:xfrm>
                    <a:off x="453960" y="6125760"/>
                    <a:ext cx="4266720" cy="533520"/>
                    <a:chOff x="453960" y="6125760"/>
                    <a:chExt cx="4266720" cy="533520"/>
                  </a:xfrm>
                </p:grpSpPr>
                <p:sp>
                  <p:nvSpPr>
                    <p:cNvPr id="312" name="Line 53"/>
                    <p:cNvSpPr/>
                    <p:nvPr/>
                  </p:nvSpPr>
                  <p:spPr>
                    <a:xfrm>
                      <a:off x="453960" y="6125760"/>
                      <a:ext cx="426672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302c24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Line 54"/>
                    <p:cNvSpPr/>
                    <p:nvPr/>
                  </p:nvSpPr>
                  <p:spPr>
                    <a:xfrm>
                      <a:off x="2587320" y="6125760"/>
                      <a:ext cx="0" cy="53352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302c24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14" name="Text Box 55"/>
                <p:cNvSpPr/>
                <p:nvPr/>
              </p:nvSpPr>
              <p:spPr>
                <a:xfrm>
                  <a:off x="304920" y="6389640"/>
                  <a:ext cx="259056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dec" pos="16002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"/>
                    </a:rPr>
                    <a:t>Mar. 2        1,944.00</a:t>
                  </a:r>
                  <a:endParaRPr b="0" lang="en-US" sz="1600" spc="-1" strike="noStrike">
                    <a:solidFill>
                      <a:srgbClr val="302c24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Group 59"/>
              <p:cNvGrpSpPr/>
              <p:nvPr/>
            </p:nvGrpSpPr>
            <p:grpSpPr>
              <a:xfrm>
                <a:off x="457200" y="4816440"/>
                <a:ext cx="4343400" cy="1004760"/>
                <a:chOff x="457200" y="4816440"/>
                <a:chExt cx="4343400" cy="1004760"/>
              </a:xfrm>
            </p:grpSpPr>
            <p:grpSp>
              <p:nvGrpSpPr>
                <p:cNvPr id="316" name="Group 39"/>
                <p:cNvGrpSpPr/>
                <p:nvPr/>
              </p:nvGrpSpPr>
              <p:grpSpPr>
                <a:xfrm>
                  <a:off x="457200" y="4816440"/>
                  <a:ext cx="4266360" cy="1004760"/>
                  <a:chOff x="457200" y="4816440"/>
                  <a:chExt cx="4266360" cy="1004760"/>
                </a:xfrm>
              </p:grpSpPr>
              <p:sp>
                <p:nvSpPr>
                  <p:cNvPr id="317" name="Text Box 40"/>
                  <p:cNvSpPr/>
                  <p:nvPr/>
                </p:nvSpPr>
                <p:spPr>
                  <a:xfrm>
                    <a:off x="1471320" y="4816440"/>
                    <a:ext cx="1875240" cy="60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2880" bIns="182880" anchor="ctr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302c24"/>
                        </a:solidFill>
                        <a:latin typeface="Arial"/>
                      </a:rPr>
                      <a:t>Sales Tax Payable</a:t>
                    </a:r>
                    <a:endParaRPr b="0" lang="en-US" sz="1600" spc="-1" strike="noStrike">
                      <a:solidFill>
                        <a:srgbClr val="302c24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8" name="Group 41"/>
                  <p:cNvGrpSpPr/>
                  <p:nvPr/>
                </p:nvGrpSpPr>
                <p:grpSpPr>
                  <a:xfrm>
                    <a:off x="457200" y="5287680"/>
                    <a:ext cx="4266360" cy="533520"/>
                    <a:chOff x="457200" y="5287680"/>
                    <a:chExt cx="4266360" cy="533520"/>
                  </a:xfrm>
                </p:grpSpPr>
                <p:sp>
                  <p:nvSpPr>
                    <p:cNvPr id="319" name="Line 42"/>
                    <p:cNvSpPr/>
                    <p:nvPr/>
                  </p:nvSpPr>
                  <p:spPr>
                    <a:xfrm>
                      <a:off x="457200" y="5287680"/>
                      <a:ext cx="426636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302c24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Line 43"/>
                    <p:cNvSpPr/>
                    <p:nvPr/>
                  </p:nvSpPr>
                  <p:spPr>
                    <a:xfrm>
                      <a:off x="2590200" y="5287680"/>
                      <a:ext cx="0" cy="53352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302c24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21" name="Text Box 57"/>
                <p:cNvSpPr/>
                <p:nvPr/>
              </p:nvSpPr>
              <p:spPr>
                <a:xfrm>
                  <a:off x="2698920" y="5472000"/>
                  <a:ext cx="2101680" cy="33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dec" pos="16002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"/>
                    </a:rPr>
                    <a:t>Mar. 2</a:t>
                  </a: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"/>
                    </a:rPr>
                    <a:t>	</a:t>
                  </a: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"/>
                    </a:rPr>
                    <a:t>144.00</a:t>
                  </a:r>
                  <a:endParaRPr b="0" lang="en-US" sz="1600" spc="-1" strike="noStrike">
                    <a:solidFill>
                      <a:srgbClr val="302c24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2" name="Text Box 58"/>
          <p:cNvSpPr/>
          <p:nvPr/>
        </p:nvSpPr>
        <p:spPr>
          <a:xfrm>
            <a:off x="2698920" y="6324480"/>
            <a:ext cx="2482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Mar. 11      1,944.00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23" name="Text Box 68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1, page 495</a:t>
            </a:r>
            <a:endParaRPr b="0" lang="en-US" sz="1200" spc="-1" strike="noStrike">
              <a:solidFill>
                <a:srgbClr val="302c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02c24"/>
                </a:solidFill>
                <a:latin typeface="Book Antiqua"/>
              </a:rPr>
              <a:t>JOURNALIZING CASH RECEIPTS ON ACCOUNT WITH SALES DISCOUNTS</a:t>
            </a:r>
            <a:endParaRPr b="0" lang="en-US" sz="3500" spc="-1" strike="noStrike">
              <a:solidFill>
                <a:srgbClr val="302c24"/>
              </a:solidFill>
              <a:latin typeface="Book Antiqua"/>
            </a:endParaRPr>
          </a:p>
        </p:txBody>
      </p:sp>
      <p:pic>
        <p:nvPicPr>
          <p:cNvPr id="325" name="Picture 5" descr="D:\C21 PowerPoint\Multi_Journal\art for blue\Ch19\Ch19-02b.jpg"/>
          <p:cNvPicPr/>
          <p:nvPr/>
        </p:nvPicPr>
        <p:blipFill>
          <a:blip r:embed="rId2"/>
          <a:srcRect l="0" t="0" r="0" b="83286"/>
          <a:stretch/>
        </p:blipFill>
        <p:spPr>
          <a:xfrm>
            <a:off x="457200" y="1782720"/>
            <a:ext cx="8229600" cy="1549440"/>
          </a:xfrm>
          <a:prstGeom prst="rect">
            <a:avLst/>
          </a:prstGeom>
          <a:ln w="0">
            <a:noFill/>
          </a:ln>
        </p:spPr>
      </p:pic>
      <p:sp>
        <p:nvSpPr>
          <p:cNvPr id="326" name="Oval 6"/>
          <p:cNvSpPr/>
          <p:nvPr/>
        </p:nvSpPr>
        <p:spPr>
          <a:xfrm>
            <a:off x="6095880" y="3078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228600" y="24685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2590920" y="30780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29" name="Oval 9"/>
          <p:cNvSpPr/>
          <p:nvPr/>
        </p:nvSpPr>
        <p:spPr>
          <a:xfrm>
            <a:off x="4724280" y="3078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1219320" y="30780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514440" y="473076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Receipt Number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514440" y="39924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514440" y="509436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Original Sales Invoice Amount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514440" y="435780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Customer Name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514440" y="5456160"/>
            <a:ext cx="35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Sales Tax Reduction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7344360" y="681120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9-2, page 495</a:t>
            </a:r>
            <a:endParaRPr b="0" lang="en-US" sz="12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515880" y="5837400"/>
            <a:ext cx="35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6. Sales Discount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515880" y="6184800"/>
            <a:ext cx="35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7. Cash Received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39" name="Oval 20"/>
          <p:cNvSpPr/>
          <p:nvPr/>
        </p:nvSpPr>
        <p:spPr>
          <a:xfrm>
            <a:off x="7391520" y="30780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40" name="Oval 21"/>
          <p:cNvSpPr/>
          <p:nvPr/>
        </p:nvSpPr>
        <p:spPr>
          <a:xfrm>
            <a:off x="8001000" y="3078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760" y="30492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2c24"/>
                </a:solidFill>
                <a:latin typeface="Book Antiqua"/>
              </a:rPr>
              <a:t>POSTING FROM A CASH RECEIPTS JOURNAL TO AN ACCOUNTS RECEIVABLE LEDGER</a:t>
            </a:r>
            <a:endParaRPr b="0" lang="en-US" sz="2800" spc="-1" strike="noStrike">
              <a:solidFill>
                <a:srgbClr val="302c24"/>
              </a:solidFill>
              <a:latin typeface="Book Antiqua"/>
            </a:endParaRPr>
          </a:p>
        </p:txBody>
      </p:sp>
      <p:pic>
        <p:nvPicPr>
          <p:cNvPr id="342" name="Picture 5" descr="D:\C21 PowerPoint\Multi_Journal\art for blue\Ch19\Ch19-02c.jpg"/>
          <p:cNvPicPr/>
          <p:nvPr/>
        </p:nvPicPr>
        <p:blipFill>
          <a:blip r:embed="rId2"/>
          <a:srcRect l="5561" t="0" r="0" b="62164"/>
          <a:stretch/>
        </p:blipFill>
        <p:spPr>
          <a:xfrm>
            <a:off x="422280" y="1432080"/>
            <a:ext cx="8264520" cy="333216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1"/>
          <p:cNvSpPr/>
          <p:nvPr/>
        </p:nvSpPr>
        <p:spPr>
          <a:xfrm>
            <a:off x="514440" y="559908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Amount Posted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4440" y="48610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514440" y="596268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New Balance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514440" y="52261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Journal Page Number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47" name="Text Box 15"/>
          <p:cNvSpPr/>
          <p:nvPr/>
        </p:nvSpPr>
        <p:spPr>
          <a:xfrm>
            <a:off x="514440" y="6324480"/>
            <a:ext cx="74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Customer Number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7344360" y="646020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9-2, page 496</a:t>
            </a:r>
            <a:endParaRPr b="0" lang="en-US" sz="1200" spc="-1" strike="noStrike">
              <a:solidFill>
                <a:srgbClr val="302c24"/>
              </a:solidFill>
              <a:latin typeface="Times New Roman"/>
            </a:endParaRPr>
          </a:p>
        </p:txBody>
      </p:sp>
      <p:grpSp>
        <p:nvGrpSpPr>
          <p:cNvPr id="349" name="Group 21"/>
          <p:cNvGrpSpPr/>
          <p:nvPr/>
        </p:nvGrpSpPr>
        <p:grpSpPr>
          <a:xfrm>
            <a:off x="228600" y="2575080"/>
            <a:ext cx="762120" cy="1981080"/>
            <a:chOff x="228600" y="2575080"/>
            <a:chExt cx="762120" cy="1981080"/>
          </a:xfrm>
        </p:grpSpPr>
        <p:sp>
          <p:nvSpPr>
            <p:cNvPr id="350" name="Freeform 18"/>
            <p:cNvSpPr/>
            <p:nvPr/>
          </p:nvSpPr>
          <p:spPr>
            <a:xfrm>
              <a:off x="304920" y="2575080"/>
              <a:ext cx="685800" cy="19810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02c24"/>
                </a:solidFill>
                <a:latin typeface="Times New Roman"/>
              </a:endParaRPr>
            </a:p>
          </p:txBody>
        </p:sp>
        <p:sp>
          <p:nvSpPr>
            <p:cNvPr id="351" name="Oval 7"/>
            <p:cNvSpPr/>
            <p:nvPr/>
          </p:nvSpPr>
          <p:spPr>
            <a:xfrm>
              <a:off x="228600" y="333720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ac64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02c24"/>
                </a:solidFill>
                <a:latin typeface="Times New Roman"/>
              </a:endParaRPr>
            </a:p>
          </p:txBody>
        </p:sp>
      </p:grpSp>
      <p:grpSp>
        <p:nvGrpSpPr>
          <p:cNvPr id="352" name="Group 24"/>
          <p:cNvGrpSpPr/>
          <p:nvPr/>
        </p:nvGrpSpPr>
        <p:grpSpPr>
          <a:xfrm>
            <a:off x="4595760" y="2651040"/>
            <a:ext cx="533520" cy="1752480"/>
            <a:chOff x="4595760" y="2651040"/>
            <a:chExt cx="533520" cy="1752480"/>
          </a:xfrm>
        </p:grpSpPr>
        <p:sp>
          <p:nvSpPr>
            <p:cNvPr id="353" name="Line 19"/>
            <p:cNvSpPr/>
            <p:nvPr/>
          </p:nvSpPr>
          <p:spPr>
            <a:xfrm>
              <a:off x="4876920" y="2651040"/>
              <a:ext cx="0" cy="17524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02c24"/>
                </a:solidFill>
                <a:latin typeface="Times New Roman"/>
              </a:endParaRPr>
            </a:p>
          </p:txBody>
        </p:sp>
        <p:sp>
          <p:nvSpPr>
            <p:cNvPr id="354" name="Oval 8"/>
            <p:cNvSpPr/>
            <p:nvPr/>
          </p:nvSpPr>
          <p:spPr>
            <a:xfrm>
              <a:off x="4595760" y="356544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ac64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02c24"/>
                </a:solidFill>
                <a:latin typeface="Times New Roman"/>
              </a:endParaRPr>
            </a:p>
          </p:txBody>
        </p:sp>
      </p:grpSp>
      <p:sp>
        <p:nvSpPr>
          <p:cNvPr id="355" name="Oval 9"/>
          <p:cNvSpPr/>
          <p:nvPr/>
        </p:nvSpPr>
        <p:spPr>
          <a:xfrm>
            <a:off x="5943600" y="425124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grpSp>
        <p:nvGrpSpPr>
          <p:cNvPr id="356" name="Group 22"/>
          <p:cNvGrpSpPr/>
          <p:nvPr/>
        </p:nvGrpSpPr>
        <p:grpSpPr>
          <a:xfrm>
            <a:off x="2133720" y="1432080"/>
            <a:ext cx="5638680" cy="3124080"/>
            <a:chOff x="2133720" y="1432080"/>
            <a:chExt cx="5638680" cy="3124080"/>
          </a:xfrm>
        </p:grpSpPr>
        <p:sp>
          <p:nvSpPr>
            <p:cNvPr id="357" name="Freeform 17"/>
            <p:cNvSpPr/>
            <p:nvPr/>
          </p:nvSpPr>
          <p:spPr>
            <a:xfrm>
              <a:off x="2362320" y="1660680"/>
              <a:ext cx="5410080" cy="28954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02c24"/>
                </a:solidFill>
                <a:latin typeface="Times New Roman"/>
              </a:endParaRPr>
            </a:p>
          </p:txBody>
        </p:sp>
        <p:sp>
          <p:nvSpPr>
            <p:cNvPr id="358" name="Oval 10"/>
            <p:cNvSpPr/>
            <p:nvPr/>
          </p:nvSpPr>
          <p:spPr>
            <a:xfrm>
              <a:off x="2133720" y="143208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ac64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02c24"/>
                </a:solidFill>
                <a:latin typeface="Times New Roman"/>
              </a:endParaRPr>
            </a:p>
          </p:txBody>
        </p:sp>
      </p:grpSp>
      <p:grpSp>
        <p:nvGrpSpPr>
          <p:cNvPr id="359" name="Group 23"/>
          <p:cNvGrpSpPr/>
          <p:nvPr/>
        </p:nvGrpSpPr>
        <p:grpSpPr>
          <a:xfrm>
            <a:off x="3352680" y="2575080"/>
            <a:ext cx="2362320" cy="685440"/>
            <a:chOff x="3352680" y="2575080"/>
            <a:chExt cx="2362320" cy="685440"/>
          </a:xfrm>
        </p:grpSpPr>
        <p:sp>
          <p:nvSpPr>
            <p:cNvPr id="360" name="Line 20"/>
            <p:cNvSpPr/>
            <p:nvPr/>
          </p:nvSpPr>
          <p:spPr>
            <a:xfrm flipH="1" flipV="1">
              <a:off x="3352680" y="2627280"/>
              <a:ext cx="2362320" cy="6332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02c24"/>
                </a:solidFill>
                <a:latin typeface="Times New Roman"/>
              </a:endParaRPr>
            </a:p>
          </p:txBody>
        </p:sp>
        <p:sp>
          <p:nvSpPr>
            <p:cNvPr id="361" name="Oval 6"/>
            <p:cNvSpPr/>
            <p:nvPr/>
          </p:nvSpPr>
          <p:spPr>
            <a:xfrm>
              <a:off x="3962520" y="257508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ac64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302c24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2c24"/>
                </a:solidFill>
                <a:latin typeface="Book Antiqua"/>
              </a:rPr>
              <a:t>POSTING TOTALS OF THE SPECIAL AMOUNT COLUMNS OF A CASH RECEIPTS JOURNAL TO A GENERAL LEDGER </a:t>
            </a:r>
            <a:endParaRPr b="0" lang="en-US" sz="2800" spc="-1" strike="noStrike">
              <a:solidFill>
                <a:srgbClr val="302c24"/>
              </a:solidFill>
              <a:latin typeface="Book Antiqua"/>
            </a:endParaRPr>
          </a:p>
        </p:txBody>
      </p:sp>
      <p:pic>
        <p:nvPicPr>
          <p:cNvPr id="363" name="Picture 5" descr="D:\C21 PowerPoint\Multi_Journal\art for blue\Ch19\Ch19-02d.jpg"/>
          <p:cNvPicPr/>
          <p:nvPr/>
        </p:nvPicPr>
        <p:blipFill>
          <a:blip r:embed="rId2"/>
          <a:srcRect l="1170" t="0" r="0" b="56886"/>
          <a:stretch/>
        </p:blipFill>
        <p:spPr>
          <a:xfrm>
            <a:off x="457200" y="1600200"/>
            <a:ext cx="7162920" cy="4486320"/>
          </a:xfrm>
          <a:prstGeom prst="rect">
            <a:avLst/>
          </a:prstGeom>
          <a:ln w="0">
            <a:noFill/>
          </a:ln>
        </p:spPr>
      </p:pic>
      <p:sp>
        <p:nvSpPr>
          <p:cNvPr id="364" name="Oval 7"/>
          <p:cNvSpPr/>
          <p:nvPr/>
        </p:nvSpPr>
        <p:spPr>
          <a:xfrm>
            <a:off x="7620120" y="25146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65" name="Oval 8"/>
          <p:cNvSpPr/>
          <p:nvPr/>
        </p:nvSpPr>
        <p:spPr>
          <a:xfrm>
            <a:off x="2971800" y="30481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66" name="Text Box 11"/>
          <p:cNvSpPr/>
          <p:nvPr/>
        </p:nvSpPr>
        <p:spPr>
          <a:xfrm>
            <a:off x="5715000" y="5246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2c24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02c24"/>
                </a:solidFill>
                <a:latin typeface="Arial"/>
              </a:rPr>
              <a:t>Place a check mark.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5715000" y="43639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2c24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02c24"/>
                </a:solidFill>
                <a:latin typeface="Arial"/>
              </a:rPr>
              <a:t>Post each special column total; record account numbers.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68" name="Text Box 16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9-2, page 497</a:t>
            </a:r>
            <a:endParaRPr b="0" lang="en-US" sz="1200" spc="-1" strike="noStrike">
              <a:solidFill>
                <a:srgbClr val="302c24"/>
              </a:solidFill>
              <a:latin typeface="Times New Roman"/>
            </a:endParaRPr>
          </a:p>
        </p:txBody>
      </p:sp>
      <p:grpSp>
        <p:nvGrpSpPr>
          <p:cNvPr id="369" name="Group 24"/>
          <p:cNvGrpSpPr/>
          <p:nvPr/>
        </p:nvGrpSpPr>
        <p:grpSpPr>
          <a:xfrm>
            <a:off x="3200040" y="2895480"/>
            <a:ext cx="3809880" cy="2667240"/>
            <a:chOff x="3200040" y="2895480"/>
            <a:chExt cx="3809880" cy="2667240"/>
          </a:xfrm>
        </p:grpSpPr>
        <p:grpSp>
          <p:nvGrpSpPr>
            <p:cNvPr id="370" name="Group 22"/>
            <p:cNvGrpSpPr/>
            <p:nvPr/>
          </p:nvGrpSpPr>
          <p:grpSpPr>
            <a:xfrm>
              <a:off x="3657600" y="2895480"/>
              <a:ext cx="609480" cy="1371600"/>
              <a:chOff x="3657600" y="2895480"/>
              <a:chExt cx="609480" cy="1371600"/>
            </a:xfrm>
          </p:grpSpPr>
          <p:sp>
            <p:nvSpPr>
              <p:cNvPr id="371" name="Line 18"/>
              <p:cNvSpPr/>
              <p:nvPr/>
            </p:nvSpPr>
            <p:spPr>
              <a:xfrm flipH="1">
                <a:off x="3657600" y="2895480"/>
                <a:ext cx="533520" cy="1371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02c24"/>
                  </a:solidFill>
                  <a:latin typeface="Times New Roman"/>
                </a:endParaRPr>
              </a:p>
            </p:txBody>
          </p:sp>
          <p:sp>
            <p:nvSpPr>
              <p:cNvPr id="372" name="Oval 10"/>
              <p:cNvSpPr/>
              <p:nvPr/>
            </p:nvSpPr>
            <p:spPr>
              <a:xfrm>
                <a:off x="3733920" y="3124080"/>
                <a:ext cx="533160" cy="533520"/>
              </a:xfrm>
              <a:prstGeom prst="ellipse">
                <a:avLst/>
              </a:prstGeom>
              <a:solidFill>
                <a:srgbClr val="cc0000"/>
              </a:solidFill>
              <a:ln w="38160">
                <a:solidFill>
                  <a:srgbClr val="ac6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302c24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Group 23"/>
            <p:cNvGrpSpPr/>
            <p:nvPr/>
          </p:nvGrpSpPr>
          <p:grpSpPr>
            <a:xfrm>
              <a:off x="3200040" y="2895480"/>
              <a:ext cx="3809880" cy="2667240"/>
              <a:chOff x="3200040" y="2895480"/>
              <a:chExt cx="3809880" cy="2667240"/>
            </a:xfrm>
          </p:grpSpPr>
          <p:sp>
            <p:nvSpPr>
              <p:cNvPr id="374" name="Line 20"/>
              <p:cNvSpPr/>
              <p:nvPr/>
            </p:nvSpPr>
            <p:spPr>
              <a:xfrm flipH="1">
                <a:off x="3200040" y="2895480"/>
                <a:ext cx="3809880" cy="26672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02c24"/>
                  </a:solidFill>
                  <a:latin typeface="Times New Roman"/>
                </a:endParaRPr>
              </a:p>
            </p:txBody>
          </p:sp>
          <p:sp>
            <p:nvSpPr>
              <p:cNvPr id="375" name="Oval 21"/>
              <p:cNvSpPr/>
              <p:nvPr/>
            </p:nvSpPr>
            <p:spPr>
              <a:xfrm>
                <a:off x="3733920" y="4648320"/>
                <a:ext cx="533160" cy="533160"/>
              </a:xfrm>
              <a:prstGeom prst="ellipse">
                <a:avLst/>
              </a:prstGeom>
              <a:solidFill>
                <a:srgbClr val="cc0000"/>
              </a:solidFill>
              <a:ln w="38160">
                <a:solidFill>
                  <a:srgbClr val="ac6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302c2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6" name="Text Box 12"/>
          <p:cNvSpPr/>
          <p:nvPr/>
        </p:nvSpPr>
        <p:spPr>
          <a:xfrm>
            <a:off x="5715000" y="3772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2c24"/>
                </a:solidFill>
                <a:latin typeface="Arial"/>
              </a:rPr>
              <a:t>1. Prove and rule the cash receipts journal.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5:51:14Z</dcterms:created>
  <dc:creator>Mary Colleen McLaughlin</dc:creator>
  <dc:description/>
  <dc:language>en-US</dc:language>
  <cp:lastModifiedBy>David Combs</cp:lastModifiedBy>
  <dcterms:modified xsi:type="dcterms:W3CDTF">2012-09-26T20:32:42Z</dcterms:modified>
  <cp:revision>65</cp:revision>
  <dc:subject/>
  <dc:title>ADJUSTING ENTRY FOR SUPPLIES</dc:title>
</cp:coreProperties>
</file>